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07BD-7030-4C18-943E-C8422E28975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1: 4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2: 5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2003: 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imes New Roman"/>
              </a:rPr>
              <a:t>15% de crecimiento an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Marzo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Encontraron 3 granos sospechosos.  Los mandaron  a dos labs. Uno en Philadelphia y otro en Cincina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os calif fueron designados como culpables. El 18 de Julio se señala a 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enfermedad de las vacas locas (BSE) como consecuencia de convertir a un animal vegetariano en cani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contaminacion de Estrogeno en los empaques plast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Panico a cualquier contaminacion como la causada por la fiebre del pollo en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Residuos toxicos en el cuerpo que no pueden degrad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La obesidad:  en los EEUU era de 25% en 1981 y en 2001 es de 35%.  Mata a 300,000 y cuesta $100BB en cuidados med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Vegetarianos.  Como respuesta al riezgo de enfermedades coronarias y cancer el crecimiento del consumo de frutas y vegetales sera muy grande en los años por delante. En 1996 era del 5% en EEU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9F3-30BA-422C-A99B-C6B4E195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308-CFDC-4B85-80C1-A0C831A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A62-0743-40CD-811D-EE514261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5D0-BE8F-421A-823F-93AD9CB2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9EC5-DC67-482A-832C-B0FE65AD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9F4-6980-4011-9ADA-579FBBA6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75E1-D567-4F28-9126-97CAFD0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0F7-D993-4DCF-BC4D-CA4B20E9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A099-F427-41EA-80E7-EC3B83A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942-906B-4918-986F-9AC960F6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9A1-EE3C-4EE8-B88B-9E5BD57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2B9-476B-4A3C-ACB2-26F3D240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AA7E-7DD2-4A61-A16F-960F65D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1FB-7AC7-4FD9-B69B-DE851328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D7FD-7AD2-42F2-AF39-4DC5D08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3235-48B7-4079-A7A3-EDF70E04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8EA3-3124-4E60-B260-9809E97E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11F-DAFB-4C6D-B5E1-1B8BD80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490-83CD-4C3C-A2A4-1E50A43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714-710E-430F-8EB3-8D700A6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5B9-A82A-496E-8C1D-37358304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386-7EFC-48D1-BF83-F6DDFAAD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6A1-181A-4896-9810-9133609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A26-CEAE-48ED-81A2-36F0564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626-45A0-42D4-BC5D-8DD40F4DC70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435-7BA3-4E18-9FB4-495B10D939A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La Calidad en la Agroindust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PE" sz="4000" spc="-1" strike="noStrike">
                <a:solidFill>
                  <a:srgbClr val="40458c"/>
                </a:solidFill>
                <a:latin typeface="Tahoma"/>
              </a:rPr>
              <a:t>Una forma de vid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Juan Rodolfo Wiesner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Gerente Gene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HAC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ISO 900/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de gestión ambiental ISO 14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Codex. Higiene de los alimentos. FAO/O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UREPGA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Sistemas Internacionales</a:t>
            </a:r>
            <a:br>
              <a:rPr sz="3600"/>
            </a:b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para la gestión de Calida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istema GMP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F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SENAS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40458c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86440" y="304920"/>
            <a:ext cx="427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s-PE" sz="1600" spc="-1" strike="noStrike">
                <a:solidFill>
                  <a:srgbClr val="660066"/>
                </a:solidFill>
                <a:latin typeface="Tahoma"/>
              </a:rPr>
              <a:t>EXPORTACIONES AGRICOLAS PERUAN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2280" y="1467000"/>
            <a:ext cx="899172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EXPORTACIONES AGROPECUARIAS EN PERÚ</a:t>
            </a:r>
            <a:br>
              <a:rPr sz="2400"/>
            </a:br>
            <a:r>
              <a:rPr b="0" lang="es-PE" sz="2400" spc="-1" strike="noStrike">
                <a:solidFill>
                  <a:srgbClr val="660066"/>
                </a:solidFill>
                <a:latin typeface="Tahoma"/>
              </a:rPr>
              <a:t>(Millones US$ FOB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76520"/>
          <a:ext cx="7238880" cy="48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7238880" cy="48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2475000" y="420840"/>
            <a:ext cx="4194000" cy="6018120"/>
            <a:chOff x="2475000" y="420840"/>
            <a:chExt cx="4194000" cy="6018120"/>
          </a:xfrm>
        </p:grpSpPr>
        <p:grpSp>
          <p:nvGrpSpPr>
            <p:cNvPr id="225" name=""/>
            <p:cNvGrpSpPr/>
            <p:nvPr/>
          </p:nvGrpSpPr>
          <p:grpSpPr>
            <a:xfrm>
              <a:off x="2475000" y="420840"/>
              <a:ext cx="4194000" cy="442800"/>
              <a:chOff x="2475000" y="420840"/>
              <a:chExt cx="4194000" cy="442800"/>
            </a:xfrm>
          </p:grpSpPr>
          <p:sp>
            <p:nvSpPr>
              <p:cNvPr id="226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475000" y="420840"/>
                <a:ext cx="4194000" cy="4428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XPORTACIONES DE PRODUCTOS AGRÍCOLAS</a:t>
                </a:r>
                <a:br>
                  <a:rPr sz="1200"/>
                </a:br>
                <a:r>
                  <a:rPr b="1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En miles de dólares FOB.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75000" y="863640"/>
              <a:ext cx="2395440" cy="274680"/>
              <a:chOff x="2475000" y="863640"/>
              <a:chExt cx="2395440" cy="2746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75000" y="863640"/>
                <a:ext cx="239544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Product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870440" y="863640"/>
              <a:ext cx="858960" cy="274680"/>
              <a:chOff x="4870440" y="863640"/>
              <a:chExt cx="858960" cy="274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870440" y="863640"/>
                <a:ext cx="85896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729400" y="863640"/>
              <a:ext cx="939600" cy="274680"/>
              <a:chOff x="5729400" y="863640"/>
              <a:chExt cx="939600" cy="274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29400" y="863640"/>
                <a:ext cx="939600" cy="27468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9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475000" y="1138320"/>
              <a:ext cx="2395440" cy="274680"/>
              <a:chOff x="2475000" y="1138320"/>
              <a:chExt cx="2395440" cy="274680"/>
            </a:xfrm>
          </p:grpSpPr>
          <p:sp>
            <p:nvSpPr>
              <p:cNvPr id="238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75000" y="113832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Hortaliz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870440" y="1138320"/>
              <a:ext cx="858960" cy="274680"/>
              <a:chOff x="4870440" y="1138320"/>
              <a:chExt cx="858960" cy="2746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870440" y="113832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1.914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729400" y="1138320"/>
              <a:ext cx="939600" cy="274680"/>
              <a:chOff x="5729400" y="1138320"/>
              <a:chExt cx="939600" cy="274680"/>
            </a:xfrm>
          </p:grpSpPr>
          <p:sp>
            <p:nvSpPr>
              <p:cNvPr id="244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29400" y="113832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4.623</a:t>
                </a:r>
                <a:r>
                  <a:rPr b="0" lang="en-US" sz="11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(1)</a:t>
                </a:r>
                <a:endParaRPr b="0" lang="en-US" sz="11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475000" y="1413000"/>
              <a:ext cx="2395440" cy="1735200"/>
              <a:chOff x="2475000" y="1413000"/>
              <a:chExt cx="2395440" cy="173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75000" y="1413000"/>
                <a:ext cx="239544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rut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Fresc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g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servadas provisionalmente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onfit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ermelad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En conserv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Deshidratad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70440" y="1413000"/>
              <a:ext cx="858960" cy="1735200"/>
              <a:chOff x="4870440" y="1413000"/>
              <a:chExt cx="858960" cy="1735200"/>
            </a:xfrm>
          </p:grpSpPr>
          <p:sp>
            <p:nvSpPr>
              <p:cNvPr id="250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0440" y="1413000"/>
                <a:ext cx="85896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02.39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345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4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1.34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.5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6.10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660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5729400" y="1413000"/>
              <a:ext cx="939600" cy="1735200"/>
              <a:chOff x="5729400" y="1413000"/>
              <a:chExt cx="939600" cy="1735200"/>
            </a:xfrm>
          </p:grpSpPr>
          <p:sp>
            <p:nvSpPr>
              <p:cNvPr id="253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29400" y="1413000"/>
                <a:ext cx="939600" cy="173520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580.67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291.93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3.9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18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7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0.334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8.99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6.179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75.428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2475000" y="3148200"/>
              <a:ext cx="2395440" cy="274680"/>
              <a:chOff x="2475000" y="3148200"/>
              <a:chExt cx="239544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475000" y="314820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ereal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70440" y="3148200"/>
              <a:ext cx="858960" cy="274680"/>
              <a:chOff x="4870440" y="3148200"/>
              <a:chExt cx="858960" cy="274680"/>
            </a:xfrm>
          </p:grpSpPr>
          <p:sp>
            <p:nvSpPr>
              <p:cNvPr id="259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70440" y="314820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00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729400" y="3148200"/>
              <a:ext cx="939600" cy="274680"/>
              <a:chOff x="5729400" y="3148200"/>
              <a:chExt cx="939600" cy="274680"/>
            </a:xfrm>
          </p:grpSpPr>
          <p:sp>
            <p:nvSpPr>
              <p:cNvPr id="262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9400" y="314820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.659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475000" y="3422880"/>
              <a:ext cx="2395440" cy="274680"/>
              <a:chOff x="2475000" y="3422880"/>
              <a:chExt cx="2395440" cy="274680"/>
            </a:xfrm>
          </p:grpSpPr>
          <p:sp>
            <p:nvSpPr>
              <p:cNvPr id="265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475000" y="3422880"/>
                <a:ext cx="239544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Legumbre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870440" y="3422880"/>
              <a:ext cx="858960" cy="274680"/>
              <a:chOff x="4870440" y="3422880"/>
              <a:chExt cx="858960" cy="274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70440" y="3422880"/>
                <a:ext cx="85896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8.91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729400" y="3422880"/>
              <a:ext cx="939600" cy="274680"/>
              <a:chOff x="5729400" y="3422880"/>
              <a:chExt cx="939600" cy="274680"/>
            </a:xfrm>
          </p:grpSpPr>
          <p:sp>
            <p:nvSpPr>
              <p:cNvPr id="271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29400" y="3422880"/>
                <a:ext cx="939600" cy="27468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48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475000" y="3697560"/>
              <a:ext cx="2395440" cy="274680"/>
              <a:chOff x="2475000" y="3697560"/>
              <a:chExt cx="2395440" cy="27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475000" y="369756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emillas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870440" y="3697560"/>
              <a:ext cx="858960" cy="274680"/>
              <a:chOff x="4870440" y="3697560"/>
              <a:chExt cx="858960" cy="274680"/>
            </a:xfrm>
          </p:grpSpPr>
          <p:sp>
            <p:nvSpPr>
              <p:cNvPr id="277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70440" y="369756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87.72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729400" y="3697560"/>
              <a:ext cx="939600" cy="274680"/>
              <a:chOff x="5729400" y="3697560"/>
              <a:chExt cx="939600" cy="27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29400" y="369756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03.97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475000" y="3972240"/>
              <a:ext cx="2395440" cy="1734840"/>
              <a:chOff x="2475000" y="3972240"/>
              <a:chExt cx="2395440" cy="1734840"/>
            </a:xfrm>
          </p:grpSpPr>
          <p:sp>
            <p:nvSpPr>
              <p:cNvPr id="283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475000" y="3972240"/>
                <a:ext cx="239544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Otros product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Coseta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 de remolach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aramelo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Chocolate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Pastas alimenticia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Tabac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Malta, incluso tostada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Zumo en polvo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   Vino embotellado y a grane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4870440" y="3972240"/>
              <a:ext cx="858960" cy="1734840"/>
              <a:chOff x="4870440" y="3972240"/>
              <a:chExt cx="858960" cy="1734840"/>
            </a:xfrm>
          </p:grpSpPr>
          <p:sp>
            <p:nvSpPr>
              <p:cNvPr id="286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70440" y="3972240"/>
                <a:ext cx="85896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569.15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4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4.37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958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7.20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9.51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7.3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9.16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94.067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729400" y="3972240"/>
              <a:ext cx="939600" cy="1734840"/>
              <a:chOff x="5729400" y="3972240"/>
              <a:chExt cx="939600" cy="1734840"/>
            </a:xfrm>
          </p:grpSpPr>
          <p:sp>
            <p:nvSpPr>
              <p:cNvPr id="289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9400" y="3972240"/>
                <a:ext cx="939600" cy="1734840"/>
              </a:xfrm>
              <a:prstGeom prst="rect">
                <a:avLst/>
              </a:prstGeom>
              <a:solidFill>
                <a:srgbClr val="c8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18.090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4.282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5.92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3.781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35.063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2.986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13.975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68.167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423.913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475000" y="5707080"/>
              <a:ext cx="2395440" cy="274680"/>
              <a:chOff x="2475000" y="5707080"/>
              <a:chExt cx="2395440" cy="274680"/>
            </a:xfrm>
          </p:grpSpPr>
          <p:sp>
            <p:nvSpPr>
              <p:cNvPr id="292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75000" y="5707080"/>
                <a:ext cx="239544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Total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870440" y="5707080"/>
              <a:ext cx="858960" cy="274680"/>
              <a:chOff x="4870440" y="5707080"/>
              <a:chExt cx="858960" cy="274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870440" y="5707080"/>
                <a:ext cx="85896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91.116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5729400" y="5707080"/>
              <a:ext cx="939600" cy="274680"/>
              <a:chOff x="5729400" y="5707080"/>
              <a:chExt cx="939600" cy="274680"/>
            </a:xfrm>
          </p:grpSpPr>
          <p:sp>
            <p:nvSpPr>
              <p:cNvPr id="298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729400" y="5707080"/>
                <a:ext cx="939600" cy="274680"/>
              </a:xfrm>
              <a:prstGeom prst="rect">
                <a:avLst/>
              </a:prstGeom>
              <a:solidFill>
                <a:srgbClr val="b4ff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2.506.505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475000" y="5981760"/>
              <a:ext cx="4194000" cy="457200"/>
              <a:chOff x="2475000" y="5981760"/>
              <a:chExt cx="4194000" cy="45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5000" y="5981760"/>
                <a:ext cx="4194000" cy="457200"/>
              </a:xfrm>
              <a:prstGeom prst="rect">
                <a:avLst/>
              </a:prstGeom>
              <a:solidFill>
                <a:srgbClr val="fab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(1) [</a:t>
                </a:r>
                <a:r>
                  <a:rPr b="0" i="1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Sic</a:t>
                </a: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].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40458c"/>
                    </a:solidFill>
                    <a:latin typeface="Arial"/>
                    <a:ea typeface="Arial"/>
                  </a:rPr>
                  <a:t>Fuente: Banco Central de Chile.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324480" y="-5911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UVAS CHILENAS CON CIANURO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(Marzo 1989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Perdidas por $240M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0,000 a 50,000 empleos perd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2,400 productores afect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- FDA: La Agencia que nunca pier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38862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660066"/>
                </a:solidFill>
                <a:latin typeface="Tahoma"/>
              </a:rPr>
              <a:t>CASO DE LAS FRAMBUESAS DE GUATEMALA</a:t>
            </a:r>
            <a:br>
              <a:rPr sz="2800"/>
            </a:br>
            <a:r>
              <a:rPr b="0" lang="es-PE" sz="2800" spc="-1" strike="noStrike">
                <a:solidFill>
                  <a:srgbClr val="660066"/>
                </a:solidFill>
                <a:latin typeface="Tahoma"/>
              </a:rPr>
              <a:t>                        (Junio 1996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1,465 casos de infección por Cyclospora en EEUU y Canadá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Perdidas en ventas de Fresa de California $20MM a $40M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Se perdio la confianza en un día y toda una vida para recuperarl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Hoy solo 5 firmas producen frutilla de las 85 origin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Afecto todas las exportaciones del paí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3809880" y="533412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EL MUNDO ACTU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La población actual es de 6 billones y será de 8 billones en el 202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95% de este crecimiento será en países pob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60% de la población mundial vive con US$ 2 a día o men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Un billón de personas no saben leer ni escribi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840 millones tienen hamb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concepto religioso y tribal será una gran fuerza domina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40458c"/>
                </a:solidFill>
                <a:latin typeface="Tahoma"/>
              </a:rPr>
              <a:t>El Terrorismo será una forma común de vida en muchos paí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40458c"/>
                </a:solidFill>
                <a:latin typeface="Tahoma"/>
              </a:rPr>
              <a:t>Por todo esto el Mundo se caracterizara por grandes conflictos.  Será un Mundo de intolerancia y extremismo 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9"/>
          <a:stretch/>
        </p:blipFill>
        <p:spPr>
          <a:xfrm>
            <a:off x="7162920" y="22860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660066"/>
                </a:solidFill>
                <a:latin typeface="Tahoma"/>
              </a:rPr>
              <a:t>LA ALIMENTACIÓN EN NUESTROS  MERCADOS DE EXPORTACIÓ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Cada día la neurosis será mayor. Los reclamos por alimentos y bebidas crecerá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Residuos Tóxicos en la sang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La obesida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Incremento en el consumo de frutas y vege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40458c"/>
                </a:solidFill>
                <a:latin typeface="Tahoma"/>
              </a:rPr>
              <a:t>Será proveída por las grandes Cadenas de Supermerc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57600" y="5410080"/>
            <a:ext cx="11541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660066"/>
                </a:solidFill>
                <a:latin typeface="Times New Roman"/>
              </a:rPr>
              <a:t>Ventas Camposol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676520"/>
          <a:ext cx="9220320" cy="55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92203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65160" y="76320"/>
            <a:ext cx="115416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534160" y="1828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5:28:25Z</dcterms:created>
  <dc:creator>Juan Rodolfo Wiesner</dc:creator>
  <dc:description/>
  <dc:language>en-US</dc:language>
  <cp:lastModifiedBy>jore</cp:lastModifiedBy>
  <dcterms:modified xsi:type="dcterms:W3CDTF">2004-04-30T17:16:32Z</dcterms:modified>
  <cp:revision>24</cp:revision>
  <dc:subject/>
  <dc:title>Presentación de PowerPoint</dc:title>
</cp:coreProperties>
</file>